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494B-F63B-4043-A1D1-E1534E26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AB7B-F6A9-4DF5-AC78-A83E1A56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FF3A-BEA9-48AD-8484-2FCB6F7B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334-B456-47B4-9016-4E032FA4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72F8-7289-49E3-A493-3632A9EA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2395-D7B7-4FB0-B0F1-2E1D2DD3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8306-4C5D-4DCD-A33C-960E69F3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1E4C-65AE-4B2A-B474-250DB895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0573-1186-4538-92DD-4BEB40D7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3E2E-2D61-4EB0-80D3-E0762D2E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0274-CE0C-4DAB-9683-90E22141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6FC2-4F7E-46D6-ACFE-AA418323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C996-2CF5-45B7-AA87-3DC7D588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5572-71D4-440D-AC4C-D7300E3A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EEA2-045E-412C-9180-DAAE9A59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7858-5A21-4E05-AD89-54B28A3D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DA77-4C6C-423A-B690-D59AD339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67ED-C238-4877-831D-00CA810E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2E56-FA75-46AA-8330-0BEF0560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BAD-DDDA-473D-8488-7B999194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17BE-B5FF-4937-B5C2-0B00429E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632-A7D8-4BB1-8B68-DFFAEAD7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A6A-4005-4305-A9BB-A917C475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569C-520C-4CB0-A048-022B10D2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B4D1-F531-4332-B6FA-E90198D5C66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82AB-51E5-425C-BCB3-07AD371B865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.kir.com/archives/oil%2520and%2520gas%2520well%2520at%2520sunset3.jpg&amp;imgrefurl=http://blog.kir.com/archives/cat_economics_energy_prices.asp&amp;usg=__L8_-RtQUGF5OkggUFgVkSJzmGs0=&amp;h=450&amp;w=300&amp;sz=14&amp;hl=en&amp;start=5&amp;tbnid=fjnmFhFZmvgSjM:&amp;tbnh=127&amp;tbnw=85&amp;prev=/images%3Fq%3Doil%26hl%3Den%26safe%3Dactive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66"/>
                </a:solidFill>
                <a:latin typeface="Matura MT Script Capitals"/>
              </a:rPr>
              <a:t>Oman</a:t>
            </a:r>
            <a:br>
              <a:rPr sz="11800"/>
            </a:br>
            <a:r>
              <a:rPr b="0" lang="ar-SA" sz="8000" spc="-1" strike="noStrike">
                <a:solidFill>
                  <a:srgbClr val="000066"/>
                </a:solidFill>
                <a:latin typeface="Tahoma"/>
                <a:cs typeface="Arial"/>
              </a:rPr>
              <a:t>عمان</a:t>
            </a:r>
            <a:r>
              <a:rPr b="0" lang="en-US" sz="8000" spc="-1" strike="noStrike">
                <a:solidFill>
                  <a:srgbClr val="000066"/>
                </a:solidFill>
                <a:latin typeface="Tahoma"/>
                <a:ea typeface="Arial"/>
              </a:rPr>
              <a:t>  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24080" y="6172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Matura MT Script Capitals"/>
              </a:rPr>
              <a:t>Josh Crumbling and Lauren Sherid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atura MT Script Capitals"/>
              </a:rPr>
              <a:t>Works Cit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bbc.co.u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nationalgeographic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cia.g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atura MT Script Capitals"/>
              </a:rPr>
              <a:t>The 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arding Saudi Arab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desert pl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gged mountains in the north and s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lf of 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ian Gu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352680"/>
            <a:ext cx="3743280" cy="235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4120" y="990720"/>
            <a:ext cx="2841480" cy="1939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0880" y="4419720"/>
            <a:ext cx="259092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atura MT Script Capitals"/>
              </a:rPr>
              <a:t>The Land cont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role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p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b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est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m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yps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al 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371600"/>
            <a:ext cx="1527120" cy="2281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486400" y="1828800"/>
            <a:ext cx="2209680" cy="2043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276720" y="4038480"/>
            <a:ext cx="1941480" cy="2524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638680" y="42670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124080" y="3733920"/>
            <a:ext cx="2679840" cy="26794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atura MT Script Capitals"/>
              </a:rPr>
              <a:t>Climate And Vege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y desert clim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abian leop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y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zel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ert fo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dc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2 species of whale and dolph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ert pla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019920" y="4038480"/>
            <a:ext cx="3124080" cy="2265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2924280" cy="27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atura MT Script Capitals"/>
              </a:rPr>
              <a:t>Govern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 is the Sul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ltan is Qaboos Bin Said Al Sa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ck of democratic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important decisions are made by Sul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tion-2.6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fe expec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4-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7-w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2705040" cy="27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81480" y="1295280"/>
            <a:ext cx="3733920" cy="34848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atura MT Script Capitals"/>
              </a:rPr>
              <a:t>History and Current Ev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ldest independent state in the Arab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its roots in Islamic reli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of the first groups of people to embrace Isl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never been inva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man is growing rapid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atura MT Script Capitals"/>
              </a:rPr>
              <a:t>Econom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ddle income econo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vily dependent on oil indus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ural g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mic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vestoc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chin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19520" y="3429000"/>
            <a:ext cx="3809880" cy="3191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72200" y="1219320"/>
            <a:ext cx="2819520" cy="21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91320" y="609480"/>
            <a:ext cx="2943000" cy="3676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atura MT Script Capitals"/>
              </a:rPr>
              <a:t>Cult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352680" y="1219320"/>
            <a:ext cx="2190960" cy="2874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010280" y="3505320"/>
            <a:ext cx="1886040" cy="2514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lamic cul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cy 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6.8- m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3.5- fem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go to school until they are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abic langu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 wear gowns usually wh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times they use a c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 wear a dress over pants and a head dress usually very colorfu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1905120" cy="14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atura MT Script Capitals"/>
              </a:rPr>
              <a:t>Places to Visi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ital city of Musc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as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4496040" cy="3457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238560" cy="2111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4143240" cy="310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7:37:04Z</dcterms:created>
  <dc:creator>joshuabcrumbling</dc:creator>
  <dc:description/>
  <dc:language>en-US</dc:language>
  <cp:lastModifiedBy>joshuabcrumbling</cp:lastModifiedBy>
  <dcterms:modified xsi:type="dcterms:W3CDTF">2009-02-18T17:45:36Z</dcterms:modified>
  <cp:revision>15</cp:revision>
  <dc:subject/>
  <dc:title>Oman عمان‎ </dc:title>
</cp:coreProperties>
</file>